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1813-3528-40B5-85F6-CE3E2DF0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DDA2-37A9-4721-A077-1E807A2C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8B21-2CCA-4A3A-8523-7B237D349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E37C-40BA-4B0D-9BB2-16A630F5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B78F7-24A2-498E-BB67-41E5353E4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BC12F-39D6-4730-861D-1204D9A0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CAC4E-A3A5-44D1-8642-3BAC8AB7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F1F36-263E-4345-A505-8BCC0A5C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0D2DD-630E-431A-9B34-6834E7C8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4FDE1-6D4B-41F6-9D08-672D2A5D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E10E6-F079-4DA6-B161-B462D239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E746-C660-498A-9121-03935B45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56F4D-C7BA-49B9-9B89-ABDD626A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CDBB8-B51D-4E02-A412-C0E348B3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89D4C-8847-4031-9DFD-55FEDEC8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5D549-9CC2-4CDD-8115-798C6FDD5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27776-8F81-404D-8036-98631DF7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4E11-7E7D-4AE4-8D9C-9BF7F5CE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CBF7-2B3D-4A4F-9D18-30D61FDB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1D1A-00C9-4EAE-A1E2-4E955603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E0ED-2AF8-4026-8917-3CD51B2E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8134-4930-4016-A52D-062F7C6E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06AC-7896-4509-AE52-892C8D3A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88CF-B996-43AF-9114-8342AD96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84DF-7108-42AE-A47C-01A0D5E2FF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88C2-ADE6-4346-A7E5-557CC27A43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89960" y="189000"/>
            <a:ext cx="59245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Romances fronteriz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Romance de otro asalto a Baeza”  (agosto 140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oricos, los mis morico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s que ganáis mi solda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derribédesme a Baez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sa villa torrea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a los viejosm y a los ni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traed en cabalga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a los mozos y var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s meted  todos a espa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a ese viejo pero Día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prendédmelo por la barb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aquesa linda Leon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erá la mi enamor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Id vos, capitán Vanegas, porque venga más honra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porque si vos sois mandadero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erá cierta la jornada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01:34:04Z</dcterms:created>
  <dc:creator> </dc:creator>
  <dc:description/>
  <dc:language>en-US</dc:language>
  <cp:lastModifiedBy> </cp:lastModifiedBy>
  <dcterms:modified xsi:type="dcterms:W3CDTF">2007-09-28T02:57:27Z</dcterms:modified>
  <cp:revision>6</cp:revision>
  <dc:subject/>
  <dc:title>Diapositiva 1</dc:title>
</cp:coreProperties>
</file>